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AC4B-DA09-4829-92BE-B4F10994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B1A5-2E0A-4D91-A0C3-789815BC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C86B-6949-4038-9B5D-9403C238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76A3-7BF8-4AFC-BAD1-2713C14D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7E3A-B96E-48B9-8440-9A97E94D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6306-1D12-4414-8AF7-2559760F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C735-D64A-4771-AE20-B0F960C5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BC04-F58C-49FC-B66F-7FE578DB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527C-D2E4-41A6-928F-F9889AB5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94A4-C7EE-4E39-8653-36FA8E0E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A875-2889-4DEF-B928-94FAA7A8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1604-8E93-4B8B-8AA6-EF455914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42C0-C9C7-4342-9B49-DF31B0EB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3351-960D-44E7-B037-D4B5A465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8E02-FC47-4953-AB17-66DD3495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3817-E268-4AB3-95D9-8DF0E2A4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038D-3FED-4027-B275-2BFF13A2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D1C0-C9D3-4C05-A930-FDCC7DA5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E305-1AA3-4B18-9263-3B44C328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FA1B-642B-496C-A60E-5697EBF4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236D-BA7A-4B9D-BAE1-DB498116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EE28-2E08-4C83-BF97-33DEBCE6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06A0-E43A-43F3-B747-DF8AA1E5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878-E1A5-45CA-A819-99C52DA8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9AA0-C2BF-4359-AE9A-C9B5B7F4A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1219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621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29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057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0384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2B2A-970F-44DD-92CF-06000C7E7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  <a:p>
            <a:pPr lvl="1" marL="443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0200" algn="ctr">
              <a:spcBef>
                <a:spcPts val="3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73720" algn="ctr">
              <a:spcBef>
                <a:spcPts val="24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Graphics and Animation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hapter 8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Graphic File Format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 computer can save and interpret graphic images in a variety of formats. Some of the most common ar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39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F (Graphics Interchange Format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39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PEG (Joint Photographic Experts Group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39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FF (Tagged Information File Format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39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C (PICTure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39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MP (bitmap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39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A (Targ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39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NG (Portable Network Graphic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Editing Graphic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58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Graphics editors have features for changing the sizes of images as well as their colors and other attributes. These include: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ther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pp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i-alias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iz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4343400" y="20574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is animation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nimation is when images achieve the illusion of motion. 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76920" y="2068560"/>
            <a:ext cx="396216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Futura Md BT"/>
              </a:rPr>
              <a:t>Animation in Multimedia</a:t>
            </a:r>
            <a:endParaRPr b="0" lang="en-US" sz="44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ome common uses of animation includ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nimated navigation button that changes when the cursor passes over it (rollover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orials using animated graphics for demon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site advertisements that are animated to attract atten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games using animation to simulate 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Graphics in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raphics are an element that virtually all multimedia applications include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is a graphic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 graphic can be a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w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in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otograp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vigation butt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4648320" y="2666880"/>
            <a:ext cx="2314440" cy="1600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6095880" y="3886200"/>
            <a:ext cx="165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do graphics look like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raphics can b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ack and Wh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ysca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do graphics do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raphics can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lustrate or demonstrate proced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rify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y ide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l sto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visual appe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Computer Graphics Technology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mages created or edited on computers are either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tmapped graph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ctor graph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are bitmapped graphics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itmapped graphics, also known as raster graphics, consist of grids of tiny dots called pixels. Each pixel is assigned a color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a continuous-tone image, such as a photo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tmap graphic editors are called paint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larging a bitmap graphic may cause the image to lose crispness and cla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are vector graphics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Vector graphics use mathematical formulas to define lines, curves, and other attributes.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ly much smaller than raster graphic fi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graphic editors are called draw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lose clarity as you enlarge th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ear as bitmaps on computer monitors because computer monitors consist of pix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Graphics Quality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wo factors that determine graphics quality are resolution and color depth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lution is the number of pixels per inc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or depth refers to the number of distinct colors an image can contain. It can range from 2-bit (black and white) to 24-bit (16.7 million colors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3T02:10:31Z</dcterms:created>
  <dc:creator>Danielle Perkins</dc:creator>
  <dc:description/>
  <dc:language>en-US</dc:language>
  <cp:lastModifiedBy>GLENCOE</cp:lastModifiedBy>
  <dcterms:modified xsi:type="dcterms:W3CDTF">2003-01-04T01:07:27Z</dcterms:modified>
  <cp:revision>7</cp:revision>
  <dc:subject/>
  <dc:title>Chapter 8 Graphics and Animation</dc:title>
</cp:coreProperties>
</file>